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F52-7280-4421-B600-F5BA2315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B1A-84B8-4445-8CC0-C7597DC5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B85-7679-4893-87C7-E511300B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CD1C-3F9A-47AB-8861-FC2DD94B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06D-CE05-438D-B2B2-D5FD6CA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8020-CFE4-45C8-AD01-87DE88CB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0FE-57F4-4768-8D17-0EFFF6C9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77B-BE03-465C-A8CA-D27FD5E7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34C-4288-40D8-B0D4-79A300D3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088-7BBC-46C6-BC06-9D3A59D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D8B-CA61-4DF3-BDAA-1A095D9F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FB5-F3EC-4327-909E-BE9899B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6A25-1415-4CAC-90F7-0CB0C663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2745.WAV" TargetMode="External"/><Relationship Id="rId3" Type="http://schemas.microsoft.com/office/2007/relationships/media" Target="file:///tmp/home/.config/libreoffice/4/user/gallery/~PP274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file:///tmp/home/.config/libreoffice/4/user/gallery/~PP2069.WAV" TargetMode="External"/><Relationship Id="rId4" Type="http://schemas.microsoft.com/office/2007/relationships/media" Target="file:///tmp/home/.config/libreoffice/4/user/gallery/~PP2069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audio" Target="file:///tmp/home/.config/libreoffice/4/user/gallery/~PP3540.WAV" TargetMode="External"/><Relationship Id="rId4" Type="http://schemas.microsoft.com/office/2007/relationships/media" Target="file:///tmp/home/.config/libreoffice/4/user/gallery/~PP354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990.WAV" TargetMode="External"/><Relationship Id="rId3" Type="http://schemas.microsoft.com/office/2007/relationships/media" Target="file:///tmp/home/.config/libreoffice/4/user/gallery/~PP99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253.WAV" TargetMode="External"/><Relationship Id="rId4" Type="http://schemas.microsoft.com/office/2007/relationships/media" Target="file:///tmp/home/.config/libreoffice/4/user/gallery/~PP25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18.WAV" TargetMode="External"/><Relationship Id="rId4" Type="http://schemas.microsoft.com/office/2007/relationships/media" Target="file:///tmp/home/.config/libreoffice/4/user/gallery/~PP31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83.WAV" TargetMode="External"/><Relationship Id="rId4" Type="http://schemas.microsoft.com/office/2007/relationships/media" Target="file:///tmp/home/.config/libreoffice/4/user/gallery/~PP38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3903.WAV" TargetMode="External"/><Relationship Id="rId4" Type="http://schemas.microsoft.com/office/2007/relationships/media" Target="file:///tmp/home/.config/libreoffice/4/user/gallery/~PP3903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898.WAV" TargetMode="External"/><Relationship Id="rId4" Type="http://schemas.microsoft.com/office/2007/relationships/media" Target="file:///tmp/home/.config/libreoffice/4/user/gallery/~PP89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file:///tmp/home/.config/libreoffice/4/user/gallery/~PP1052.WAV" TargetMode="External"/><Relationship Id="rId3" Type="http://schemas.microsoft.com/office/2007/relationships/media" Target="file:///tmp/home/.config/libreoffice/4/user/gallery/~PP105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file:///tmp/home/.config/libreoffice/4/user/gallery/~PP3235.WAV" TargetMode="External"/><Relationship Id="rId4" Type="http://schemas.microsoft.com/office/2007/relationships/media" Target="file:///tmp/home/.config/libreoffice/4/user/gallery/~PP323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64911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d from LearnAlb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19320" y="2362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ten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9480" y="244440"/>
            <a:ext cx="8153640" cy="168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48320" y="3352680"/>
            <a:ext cx="1752480" cy="838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4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9320" y="2362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thousand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080" y="228600"/>
            <a:ext cx="7696440" cy="1479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48320" y="5791320"/>
            <a:ext cx="1752480" cy="8380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5000"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4719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28600" y="5202360"/>
            <a:ext cx="19810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6.7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211720"/>
            <a:ext cx="198144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0.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5257800"/>
            <a:ext cx="198108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1.0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-360" y="65530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65530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257800"/>
            <a:ext cx="7621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257800"/>
            <a:ext cx="762120" cy="990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5334120"/>
            <a:ext cx="762120" cy="990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5257800"/>
            <a:ext cx="1067040" cy="990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5257800"/>
            <a:ext cx="1066680" cy="990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67480" y="5334120"/>
            <a:ext cx="1067040" cy="99036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4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90360" y="2057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1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4080" cy="4913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48680" cy="458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40680" cy="422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5400000">
            <a:off x="266400" y="2171520"/>
            <a:ext cx="762120" cy="3808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89720" y="354312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189720" y="4991040"/>
            <a:ext cx="762120" cy="3812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911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277400" cy="4181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99104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911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76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762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752480"/>
            <a:ext cx="380880" cy="3353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752480"/>
            <a:ext cx="381240" cy="3353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752480"/>
            <a:ext cx="380880" cy="1067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819520"/>
            <a:ext cx="380880" cy="3808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3000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305560" cy="535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533520"/>
            <a:ext cx="685800" cy="106668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0"/>
            <a:ext cx="3200400" cy="396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80880"/>
            <a:ext cx="1752480" cy="13716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0"/>
            <a:ext cx="3200400" cy="39625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2000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402264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9320" y="23623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number is in the hundredths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42900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952880"/>
            <a:ext cx="1752480" cy="8384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3000"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1:36:48Z</dcterms:created>
  <dc:creator>andrea.fabbro</dc:creator>
  <dc:description/>
  <dc:language>en-US</dc:language>
  <cp:lastModifiedBy>andrea.fabbro</cp:lastModifiedBy>
  <dcterms:modified xsi:type="dcterms:W3CDTF">2008-05-05T14:50:26Z</dcterms:modified>
  <cp:revision>4</cp:revision>
  <dc:subject/>
  <dc:title>Slide 1</dc:title>
</cp:coreProperties>
</file>